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919-885D-4BEF-8AAD-BF2275F4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F1A-5631-4E36-A870-CDCC2B4D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4E4-A4A0-4E82-B104-3451F798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689-4DD2-4EA5-B56C-952AA8DC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012E-F1CB-47DF-8D0D-91EC969B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D070-CCB3-4E63-8306-74A97052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38D0-0F1C-4688-84DE-ABB9CE43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3F2C-A925-4B47-B702-C5FC76F9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6276-511F-4AC3-ABB2-A94F56C9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C073-9685-47E3-AE33-B321847B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29DC-0F38-4921-AA8D-BB1A526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C3B8-C358-452A-AE47-A7DAB08D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FB34-12D5-424B-B18E-43985CCD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F040-0BC0-41DF-8DE1-C5C43F3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9DBE-7F5C-4E42-B191-7B420C73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1C3-4C0A-448E-92D7-7CB01D5A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C6F6-B3A1-4A7A-86ED-0BB8A3ED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F29-09D0-45D0-ACD2-E8ACFB03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7EE-01EE-4DC3-A886-B0577660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670-34D8-4039-805A-6BD47810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4F76-E4C1-40C8-A314-AB1142D2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AA57-715D-4F71-A396-E5715719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5B4-6B9C-4EB3-AB13-BD145C46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D32-E224-488D-957D-670AA19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1B75-F08D-4108-9A0E-18C720707AF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5C01-F4D9-4EB4-A0B0-30DB7F54E4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C55E-0378-4CCB-93ED-9B49A3098796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FF92-B533-44E1-AF20-E4BBAE6C494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349000"/>
            <a:ext cx="6707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ировая экономика и международная торговля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92360" y="18900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E3E1-4800-4C7E-B09A-E0CDBE0F77F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7E51433-0D7D-4E31-8038-41A8373D9FA6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4360" y="476280"/>
            <a:ext cx="79088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ЕОТЕХНОЛОГИЧЕСКИЕ ТЕОРИИ М-Н ТОРГОВЛИ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280" y="1268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и теории объясняют, например,  причины торговли между странами, притом что структура и техническая характеристика факторов производства у них схож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2492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мках этих теорий учитываются возможности новой развивающейся техники и технологи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284640"/>
            <a:ext cx="18730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Крупносерийно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производств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284640"/>
            <a:ext cx="266508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себестоимост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единицы  продукц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00720" y="3284640"/>
            <a:ext cx="21589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Снижени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f5f5f"/>
                </a:solidFill>
                <a:latin typeface="Times New Roman"/>
              </a:rPr>
              <a:t>цен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645000"/>
            <a:ext cx="574920" cy="144360"/>
          </a:xfrm>
          <a:prstGeom prst="rightArrow">
            <a:avLst>
              <a:gd name="adj1" fmla="val 50000"/>
              <a:gd name="adj2" fmla="val 99564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4360" y="3573360"/>
            <a:ext cx="574920" cy="144720"/>
          </a:xfrm>
          <a:prstGeom prst="rightArrow">
            <a:avLst>
              <a:gd name="adj1" fmla="val 50000"/>
              <a:gd name="adj2" fmla="val 993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4508640"/>
            <a:ext cx="8207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номисты обращают внимание на непрерывные технологические изменения, осуществляемые фирмами с целью формирования конкурентных преимуще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, например, Голландия экспортирует цветы на сумму более 1 млрд долл. в год, используя усовершенствованные теплицы, отапливаемые электричеством или газом, и авиатранспорт для доставки товара потребителя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35E-B5DD-4693-A2BA-9D8AC6215647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0274A-35E1-4F30-9217-24C260C39F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ономерности развития миров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2060640"/>
            <a:ext cx="813744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ая торговля растет очень быстро, экспортные доли стран в объеме ВВП увеличиваются. В 1950г. мировой экспорт товаров и услуг составлял 13% мирового ВВП, в 2000г. – 17,1%, в 2015г., по прогнозу, составит 18,7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ает доля готовой продукции, особенно высокотехнологичной, наукоем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ыстро растут цены машин и оборудования, выпускаемые ведущими странами мир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нижение спроса развитых стран на сырье и продовольствие, производимые развивающимися странами. Их положение в мировой торговле ухудшается. Выгодность внешней торговли для развитых стран расте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величение мирового рынка услуг, особенно туристских, транспортных, финансовых, в сфере передачи технологии. Лидеры – развитые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65F-B80D-4BAD-8B0D-7B3618DB4EF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906971-77FF-48CE-B822-C2888B47BE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80802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яя торговля Росси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822240"/>
            <a:ext cx="8207280" cy="60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начение внешней торговли выросло. В 2003г. экспорт товаров составил 135,9 млрд долл., и увеличился на 26,2% по сравнению с уровнем 2002г., импорт вырос на 23,6% и равнялся 75,4 млрд долл. Увеличилась доля экспорта в ВВП. Россия перешла к более рациональным связям, крупнейшие ее партнеры – Германия, США, Итал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ля России в мировой торговле снижается. Ее внешнеторговый оборот составляет около 1% от мирового по сравнению с 3% во второй половине 8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благоприятна товарная структура внешней торговли. Более половины экспорта – невоспроизводимые сырьевые товары с низкой степенью обработки, цветные и черные металлы, электроэнергия, минеральные удобрения, каменный уголь, лес. Вывоз машин и оборудования – около 5%. На 70-75% поступление валюты связано с экспортом сырь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портируется оборудование и машины - около трети стоимости импорта, продовольствие, с/х сырье, медикаменты, одежда, обувь, тка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994-A9A3-4BBB-8D46-C0E6E1D94826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B5996-8D61-4A3F-ACE0-F37D7E3907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Формы международной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62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коммерческие операции, оплата в валюте – основное мес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ная торговля: оплата поставок осуществляется встречными поставками товаров (бартер, компенсационные сделки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3141720"/>
            <a:ext cx="13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АРТЕ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3141720"/>
            <a:ext cx="56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ДЕЛКА НА ОСНОВЕ НАТУРАЛЬНОГО ОБМ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ОВАРАМИ БЕЗ ДЕНЕЖНОГО РАСЧЕ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407664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оссии бартер составляет от 11 до 14%. Самый большой бартерный оборот с Китаем, Германией, Швейцарией, Венгрией (экспорт рыбы, каменного угля, чугуна, жел.руды, импорт сахара, мясных консервов, легковых автомобилей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1280" y="4941720"/>
            <a:ext cx="3838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Компенсацион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делк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515772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ставка оборудования на условиях кредита, который погашается поставками продукции, выпущенной на этом оборудовании и т.п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573408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A0A7-936B-43A2-B884-5D05990197E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80B82B-8F2D-4885-8CD2-2019ED46AC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68360" y="333360"/>
            <a:ext cx="4933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м-н торговли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907920"/>
            <a:ext cx="741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ямые сделки с экспортера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ование посредников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дистрибьют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комиссионер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агентов (биржевая торговля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2205000"/>
            <a:ext cx="5067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ды сделок на биржах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2852640"/>
            <a:ext cx="7777080" cy="33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делки на реальный товар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едполагают его поставку немедленно, т.е. в срок до 15 дней (сделка кэш или спот), или поставка в будущем (форвард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99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Срочные (фьючерсные) сделк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сделки, которые не предусматривают обязательства сторон поставить или принять реальный товар, а предполагают куплю или продажу прав на товар, т.е. </a:t>
            </a:r>
            <a:r>
              <a:rPr b="0" lang="ru-RU" sz="18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фьючерсных контрак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Результат сделки – уплата или получение разницы между ценой контракта в день его заключения и ценой в день исполнения. Целью является не получение товара, получение спекулятивной прибыли за счет разницы цен или застраховаться от потерь в случае изменения це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EC8-D67F-46A4-9FDA-90EC36A4EF6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5FFCE-BC99-4C9F-B1DE-E6B339E59A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55640" y="692280"/>
            <a:ext cx="77040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3. Международные торг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– на мировых рынках строительных услуг, при поставках дорогого оборудования. Заказ получает фирма, предложившая лучшие условия его выполн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4. Международные аукционы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На них реализуются товары, обладающие индивидуальными свойствами: пушно-меховые изделия, произведения искусства и т.п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99ff"/>
                </a:solidFill>
                <a:uFillTx/>
                <a:latin typeface="Times New Roman"/>
              </a:rPr>
              <a:t>5. Электронная коммерция</a:t>
            </a:r>
            <a:r>
              <a:rPr b="0" lang="ru-RU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например, сбыт энергоносителей на международной нефтяной бирже в Лондоне, Нью-Йоркской и Гонконгской фьючерсных бирж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22A-F8E7-4DC1-B53B-870EF5BB2843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241EC-2D82-4F9B-8171-E1E6D0BF9C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Роль ООН в мировой экономик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ятельность шести основных органов ООН регламентирует Десятая глава Устава. Одним из них, непосредственно связанным с международными экономическими отношениями, является ЭКОКОС - Экономический и социальный совет ООН, под эгидой которого действует и большинство других экономических органов этой организа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функции ЭКОКОС входит организация исследований и подготовка различного рода докладов и рекомендаций по самому широкому спектру международных экономических, социальных, культурных и сопряженных с ними вопрос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FED1-3B74-4394-A248-BB12E0FDBF0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73EB6-0982-427F-AA27-1BB6BE4C79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64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ферой деятельности ЭКО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яется рассмотрение следующих вопросов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мирового экономического и социального положения и международная торговл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окружающей среды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опросы оказания экономической и научной помощи развивающимся странам, а также аспекты состояния в них продовольственной проблем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состояние проблем социально-экономической статистики, народонаселения и природных ресурсов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а планирования и мобилизации финансовых ресурсов, а также роли государственного и кооперативного секторов в экономике развивающихся стран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роблемы регионального сотрудни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A609-25DE-4EFD-A4CE-5360C274FCD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2ACD3-B609-4E7C-ABF1-D7E29F6EF6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50920" y="26028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ференция ООН по торговле и развитию (ЮНКТАД) - международный орган, призванный регулировать всемирные торговые отношения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иболее важные требования к участникам международной торговли разрабатываются ГАТТ (Генеральное соглашение по торговле и тарифам) - они выполняют приоритетную роль и при разработке документов ЮНКТАД. С 1997 года ГАТТ решением ее участников было преобразовано во Всемирную торговую организацию, как специализированное учреждение ОО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16CC-CF02-4231-844C-8D4D24FC2C13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0E349-2AAE-4302-AF8E-3CBBD63FB0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Futures contract; Fut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ьючерсный контракт - контракт на покупку или продажу товара (финансового актива) с поставкой на будущую дату. Фьючерсный контракт предусматривает строго определенное количество товара установленного вида с минимально допустимыми отклонениями, поставляемого на определенных условиях оплаты накладных или транспортных расход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делка по продаже (покупке) фьючерсного контракта обязательно регистрируется расчетной палатой бирж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2124000" y="6381720"/>
            <a:ext cx="1008000" cy="476280"/>
          </a:xfrm>
          <a:custGeom>
            <a:avLst/>
            <a:gdLst>
              <a:gd name="textAreaLeft" fmla="*/ 30600 w 1008000"/>
              <a:gd name="textAreaRight" fmla="*/ 977400 w 1008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5696" h="21600">
                <a:moveTo>
                  <a:pt x="0" y="0"/>
                </a:moveTo>
                <a:lnTo>
                  <a:pt x="45696" y="0"/>
                </a:lnTo>
                <a:lnTo>
                  <a:pt x="45696" y="21600"/>
                </a:lnTo>
                <a:lnTo>
                  <a:pt x="0" y="21600"/>
                </a:lnTo>
                <a:close/>
              </a:path>
              <a:path fill="lightenLess" w="45696" h="21600">
                <a:moveTo>
                  <a:pt x="0" y="0"/>
                </a:moveTo>
                <a:lnTo>
                  <a:pt x="45696" y="0"/>
                </a:lnTo>
                <a:lnTo>
                  <a:pt x="44296" y="1400"/>
                </a:lnTo>
                <a:lnTo>
                  <a:pt x="1400" y="1400"/>
                </a:lnTo>
                <a:close/>
              </a:path>
              <a:path fill="darken" w="45696" h="21600">
                <a:moveTo>
                  <a:pt x="45696" y="0"/>
                </a:moveTo>
                <a:lnTo>
                  <a:pt x="45696" y="21600"/>
                </a:lnTo>
                <a:lnTo>
                  <a:pt x="44296" y="20200"/>
                </a:lnTo>
                <a:lnTo>
                  <a:pt x="44296" y="1400"/>
                </a:lnTo>
                <a:close/>
              </a:path>
              <a:path fill="darkenLess" w="45696" h="21600">
                <a:moveTo>
                  <a:pt x="456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96" y="20200"/>
                </a:lnTo>
                <a:close/>
              </a:path>
              <a:path fill="lighten" w="456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696" h="21600">
                <a:moveTo>
                  <a:pt x="15842" y="10800"/>
                </a:moveTo>
                <a:lnTo>
                  <a:pt x="29855" y="3794"/>
                </a:lnTo>
                <a:lnTo>
                  <a:pt x="29855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CDC4-6829-405C-9F0E-D246CEB409B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CA7A3-4057-45DF-8A22-0AA9305460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Мировая экономик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4247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ую экономику можно определить как совокупность национальных хозяйств и негосударственных структур, объединенных международными отношен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ровая экономика возникла благодаря международному разделению труда, что повлекло за собой как разделение производства (то есть международную специализацию), так и его объединение — кооперацию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характеристик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ерархичность (наличие наднациональных институтов, например ОО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оуровнев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руктур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равномерность распределения экономической мощи (на 32 развитые страны мира приходится 80% мировой покупательной способности граждан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определенного мирового поряд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68AF-07E4-473B-8F20-4A162747A5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7B068-BC06-44D1-B7A6-219E59C817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ятельность дистрибьютора состоит в том, что он делает оптовую закупу товара и реализует его на региональных рынках. Одновременно дистрибьютор оказывает консультационные и маркетинговые услуги, при необходимости занимается установкой оборудования. То есть, фактически, дистрибьютор – продавец, торговый представитель фирм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2124000" y="6237360"/>
            <a:ext cx="1079640" cy="620640"/>
          </a:xfrm>
          <a:custGeom>
            <a:avLst/>
            <a:gdLst>
              <a:gd name="textAreaLeft" fmla="*/ 39960 w 1079640"/>
              <a:gd name="textAreaRight" fmla="*/ 1039680 w 1079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7565" h="21600">
                <a:moveTo>
                  <a:pt x="0" y="0"/>
                </a:moveTo>
                <a:lnTo>
                  <a:pt x="37565" y="0"/>
                </a:lnTo>
                <a:lnTo>
                  <a:pt x="37565" y="21600"/>
                </a:lnTo>
                <a:lnTo>
                  <a:pt x="0" y="21600"/>
                </a:lnTo>
                <a:close/>
              </a:path>
              <a:path fill="lightenLess" w="37565" h="21600">
                <a:moveTo>
                  <a:pt x="0" y="0"/>
                </a:moveTo>
                <a:lnTo>
                  <a:pt x="37565" y="0"/>
                </a:lnTo>
                <a:lnTo>
                  <a:pt x="36165" y="1400"/>
                </a:lnTo>
                <a:lnTo>
                  <a:pt x="1400" y="1400"/>
                </a:lnTo>
                <a:close/>
              </a:path>
              <a:path fill="darken" w="37565" h="21600">
                <a:moveTo>
                  <a:pt x="37565" y="0"/>
                </a:moveTo>
                <a:lnTo>
                  <a:pt x="37565" y="21600"/>
                </a:lnTo>
                <a:lnTo>
                  <a:pt x="36165" y="20200"/>
                </a:lnTo>
                <a:lnTo>
                  <a:pt x="36165" y="1400"/>
                </a:lnTo>
                <a:close/>
              </a:path>
              <a:path fill="darkenLess" w="37565" h="21600">
                <a:moveTo>
                  <a:pt x="375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165" y="20200"/>
                </a:lnTo>
                <a:close/>
              </a:path>
              <a:path fill="lighten" w="375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565" h="21600">
                <a:moveTo>
                  <a:pt x="11776" y="10800"/>
                </a:moveTo>
                <a:lnTo>
                  <a:pt x="25789" y="3794"/>
                </a:lnTo>
                <a:lnTo>
                  <a:pt x="25789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AAB-6A7F-44F8-8BFE-953C4E067CE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1F395-EC7C-47DC-AE1D-074FDDF45A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ИССИОНЕР — посредник в торговых сделках; лицо, выполняющее за особое вознаграждение торговые поручения от своего имени, но за счет комитен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1547640" y="6237360"/>
            <a:ext cx="936720" cy="620640"/>
          </a:xfrm>
          <a:custGeom>
            <a:avLst/>
            <a:gdLst>
              <a:gd name="textAreaLeft" fmla="*/ 39960 w 936720"/>
              <a:gd name="textAreaRight" fmla="*/ 896760 w 936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2594" h="21600">
                <a:moveTo>
                  <a:pt x="0" y="0"/>
                </a:moveTo>
                <a:lnTo>
                  <a:pt x="32594" y="0"/>
                </a:lnTo>
                <a:lnTo>
                  <a:pt x="32594" y="21600"/>
                </a:lnTo>
                <a:lnTo>
                  <a:pt x="0" y="21600"/>
                </a:lnTo>
                <a:close/>
              </a:path>
              <a:path fill="lightenLess" w="32594" h="21600">
                <a:moveTo>
                  <a:pt x="0" y="0"/>
                </a:moveTo>
                <a:lnTo>
                  <a:pt x="32594" y="0"/>
                </a:lnTo>
                <a:lnTo>
                  <a:pt x="31194" y="1400"/>
                </a:lnTo>
                <a:lnTo>
                  <a:pt x="1400" y="1400"/>
                </a:lnTo>
                <a:close/>
              </a:path>
              <a:path fill="darken" w="32594" h="21600">
                <a:moveTo>
                  <a:pt x="32594" y="0"/>
                </a:moveTo>
                <a:lnTo>
                  <a:pt x="32594" y="21600"/>
                </a:lnTo>
                <a:lnTo>
                  <a:pt x="31194" y="20200"/>
                </a:lnTo>
                <a:lnTo>
                  <a:pt x="31194" y="1400"/>
                </a:lnTo>
                <a:close/>
              </a:path>
              <a:path fill="darkenLess" w="32594" h="21600">
                <a:moveTo>
                  <a:pt x="32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94" y="20200"/>
                </a:lnTo>
                <a:close/>
              </a:path>
              <a:path fill="lighten" w="32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94" h="21600">
                <a:moveTo>
                  <a:pt x="9291" y="10800"/>
                </a:moveTo>
                <a:lnTo>
                  <a:pt x="23304" y="3794"/>
                </a:lnTo>
                <a:lnTo>
                  <a:pt x="23304" y="17806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994A-564E-4364-8963-9A51347AC7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4891A-47B7-4561-8F83-BC4840729C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0" t="0" r="3969" b="0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AF7-70F5-4C49-8B45-6C81F0A8C1DE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D4406-4D1C-483F-91CB-B47C017BEB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5184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Направления и формы международных экономических отношений:</a:t>
            </a: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341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торговля товарами, работами, услуг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международная специализация производства и научно-технических работ, или международный научно-технический обмен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обмен научно-техническими результат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информационные, валютно-финансовые и кредитные связи между странами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капитала (инвестиции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вижение (миграция) рабочей силы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деятельность международных экономических организаций, хозяйственное сотрудничество в решении глобальных пробле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A3D-A0E7-4433-BA52-0D8289B3254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DE3A1-EAC5-4C3E-BD09-2E87D8553E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Субъекты мировых хозяйственных отношен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корпорации (ТНК) и их долгосрочные альянс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ранснациональные ба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инансово-промышленные группы — объединение ТНК и ТНБ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ржи (особенно крупные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рупные предпринимател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осударства, и приравненные к ним территории, а также административные единицы данных государств и территорий; Мировые финансовые и экономические организации (включая крупных инвесторов и организации-объединения крупных компаний, занимающиеся контролем определенных международных рынков, объединения стран внутри региона — СНГ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94172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ст мировой экономики за 2005 год составил 4,4 %. Суммарный ВВП всех стран составил на конец 2005 года — 43,07 трлн долл. США в номинальном выражении. В среднем ВВП на душу населения составляет около 9500 долл. (ППП) на человека. Сейчас в мире насчитывается около 30 тысяч транснациональных корпораций и около 300 тысяч их филиал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0CDC-63C0-49DB-A4A1-FA9CE04ABD8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99000-A49C-4B0F-945F-A5D9C92402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907920"/>
            <a:ext cx="77724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) развитая инфраструктура;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) наличие политических решений правительства (создание условий для интеграции – политическая и экономическая база);</a:t>
            </a:r>
            <a:br>
              <a:rPr sz="2000"/>
            </a:br>
            <a:br>
              <a:rPr sz="18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2421000"/>
          <a:ext cx="7848360" cy="3963960"/>
        </p:xfrm>
        <a:graphic>
          <a:graphicData uri="http://schemas.openxmlformats.org/drawingml/2006/table">
            <a:tbl>
              <a:tblPr/>
              <a:tblGrid>
                <a:gridCol w="2057400"/>
                <a:gridCol w="579096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ип интегр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она свободной торговл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соглашения, когда участники договариваются о снятии таможенных тарифов и квот в отношении друг друга. При этом к третьим странам – у каждого своя политика. Примеры: НАФТА, ЕЭС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аможенны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ое устранение препятствий для перемещений всех факторов производства между странами-участницами. В процессе решения находятся такие вопросы, как: полное согласование экономической политики и т.д., выравнивание экономических показателей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260280"/>
            <a:ext cx="808056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Условия и типы интеграции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A7E-AF92-4F27-BB63-F930570EC2B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5C643-2A3B-4EC5-9B54-DA2E98CC88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304920"/>
          <a:ext cx="8819640" cy="7086240"/>
        </p:xfrm>
        <a:graphic>
          <a:graphicData uri="http://schemas.openxmlformats.org/drawingml/2006/table">
            <a:tbl>
              <a:tblPr/>
              <a:tblGrid>
                <a:gridCol w="2122920"/>
                <a:gridCol w="6696720"/>
              </a:tblGrid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номический союз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зникает на этапе высокого экономического развития. Проводится согласованная (или даже единая) экономическая политика и на этой основе идет снятие всех препятствий. Создаются межгосударственные (надгосударственные) органы. Идут крупные экономические преобразования во всех странах-участницах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алютный союз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орма экономического союза и одновременно его крупная составляющая. Характерными чертами валютного союза являются: 1) согласованное (совместное) плавание национальных валют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) установление по соглашению фиксированных валютных курсов, которые целенаправленно поддерживаются Центробанками стран-участниц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) создание единой региональной валюты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) формирование единого регионального банка, являющегося эмиссионным центром этой международной валютной единицы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ная экономическая интеграция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диная экономическая политика и, как следствие, унификация законодательной базы. Условия: 1) общая налоговая система; 2) наличие единых стандартов; 3) единое трудовое законодательство и т.д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A27-55C8-4387-8DAD-1FE1A60B307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D92B8-C4F3-45D2-A55F-9001A35C64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1360"/>
            <a:ext cx="820908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правление экономической мысл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VI-XVII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., видным представителем которого был Т.Манн (1571-1641) изучали проблемы внешней торгов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кантилисты полагали, что внешняя торговля необходима стране для накопления золота, которое считалось главным источником богатства нации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Приток золота в страну обеспечивается, если вывоз товаров, за которые государство получает золото, будет больше ввоза, за который надлежит расплачиваться благородным метал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этому меркантилисты выступали за расширение экспорта и всемерное ограничение импор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40000" y="4365720"/>
            <a:ext cx="3024000" cy="2236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еркантилиз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A431-A777-4122-ACCF-92D779C5AF4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FF34E-E655-4E4A-AC4A-CB73E8E79F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м Смит выдвинул теорию мировой торговли, обосновав необходимость либерализации импорта и ослабления таможенных ограничений. Подход Смита получил назва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052640"/>
            <a:ext cx="74041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АБСОЛЮТНОГО 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773360"/>
            <a:ext cx="8496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ждая страна должна специализироваться на производстве товаров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редние издержки которых меньш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чем средние издержки в других стран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551664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бсолютное преимущество по какому-либо товару определяется наделенностью соответствующими ресурсами. Экспортируя часть товаров, на вырученные деньги страна приобретает товары, в производстве которых преимущество у друг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40000" y="3213000"/>
            <a:ext cx="476244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C27-D4FB-48CC-81A0-4E4B475EADE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B67FC-2069-49B7-ABB3-42850488C5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116000" y="404640"/>
            <a:ext cx="68198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НЦИП СРАВНИТЕЛЬНОГО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ИМУЩЕСТВ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1557360"/>
            <a:ext cx="698508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2f75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РАНА  ДОЛЖНА  СПЕЦИАЛИЗИРОВАТЬСЯ 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ПУСКЕ  ТОВАРОВ,  ПРОИЗВОДСТВО  КОТОР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НОСИТЕЛЬНО  БОЛЕЕ  ВЫГОДНО  В  СОПОСТАВЛЕНИ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 ПРОИЗВОДСТВОМ  ТАКИХ  ЖЕ  ТОВАРОВ 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РУГИХ   СТРАН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50028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сравнительного преимущества Д.Рикардо впоследствии развили другие  экономисты, которые распространили его на всю совокупность факторов производства, включая капитал. Страны экспортируют те товары, на производство которых идут факторы, имеющиеся в относительном избытке и поэтому относительно дешевые (рабочая сила в развивающихся странах дешевая, страны экспортируют трудоемкие товары, а импортируют наукоемкую продукцию, так собственное их производство потребовало бы относительно больших затрат в связи с нехваткой капитала и квалифицированного труд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0D1-3192-467B-AFF8-13DF45950464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DFA92-A91F-434B-B54E-BEC883D1AF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1:11Z</dcterms:created>
  <dc:creator>Надежда</dc:creator>
  <dc:description/>
  <dc:language>en-US</dc:language>
  <cp:lastModifiedBy>Надежда</cp:lastModifiedBy>
  <dcterms:modified xsi:type="dcterms:W3CDTF">2009-12-14T12:20:20Z</dcterms:modified>
  <cp:revision>6</cp:revision>
  <dc:subject/>
  <dc:title>Международная торгов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